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2.png" ContentType="image/png"/>
  <Override PartName="/ppt/media/image21.wmf" ContentType="image/x-wmf"/>
  <Override PartName="/ppt/media/image6.jpeg" ContentType="image/jpeg"/>
  <Override PartName="/ppt/media/applause.wav" ContentType="audio/x-wav"/>
  <Override PartName="/ppt/media/chimes.wav" ContentType="audio/x-wav"/>
  <Override PartName="/ppt/media/wind.wav" ContentType="audio/x-wav"/>
  <Override PartName="/ppt/media/image1.jpeg" ContentType="image/jpeg"/>
  <Override PartName="/ppt/media/image7.png" ContentType="image/png"/>
  <Override PartName="/ppt/media/image9.jpeg" ContentType="image/jpeg"/>
  <Override PartName="/ppt/media/image8.jpeg" ContentType="image/jpeg"/>
  <Override PartName="/ppt/media/image27.gif" ContentType="image/gif"/>
  <Override PartName="/ppt/media/image23.wmf" ContentType="image/x-wmf"/>
  <Override PartName="/ppt/media/whoosh.wav" ContentType="audio/x-wav"/>
  <Override PartName="/ppt/media/bomb.wav" ContentType="audio/x-wav"/>
  <Override PartName="/ppt/media/image26.wmf" ContentType="image/x-wmf"/>
  <Override PartName="/ppt/media/image25.wmf" ContentType="image/x-wmf"/>
  <Override PartName="/ppt/media/image5.jpeg" ContentType="image/jpeg"/>
  <Override PartName="/ppt/media/image20.wmf" ContentType="image/x-wmf"/>
  <Override PartName="/ppt/media/image2.jpeg" ContentType="image/jpeg"/>
  <Override PartName="/ppt/media/image18.wmf" ContentType="image/x-wmf"/>
  <Override PartName="/ppt/media/drumroll.wav" ContentType="audio/x-wav"/>
  <Override PartName="/ppt/media/image3.jpeg" ContentType="image/jpeg"/>
  <Override PartName="/ppt/media/image15.png" ContentType="image/png"/>
  <Override PartName="/ppt/media/image4.jpeg" ContentType="image/jpeg"/>
  <Override PartName="/ppt/media/image11.gif" ContentType="image/gif"/>
  <Override PartName="/ppt/media/image10.jpeg" ContentType="image/jpeg"/>
  <Override PartName="/ppt/media/image14.png" ContentType="image/png"/>
  <Override PartName="/ppt/media/image12.jpeg" ContentType="image/jpeg"/>
  <Override PartName="/ppt/media/image13.jpeg" ContentType="image/jpeg"/>
  <Override PartName="/ppt/media/image16.wmf" ContentType="image/x-wmf"/>
  <Override PartName="/ppt/media/image17.wmf" ContentType="image/x-wmf"/>
  <Override PartName="/ppt/media/image1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0C01-AF6A-4863-A1CA-81398F9B3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2D48-E035-4B43-88AB-28282EF0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7604-6D41-426F-BB0A-13846EFD5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0322-CA36-4A1F-B04C-04B910941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DCDF-481B-4EE0-BFC9-2632263D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461A-9AEE-48B5-9E6D-0293E492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556B-2582-489A-8BA0-9A7AACD3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C5BA-2972-4394-96B7-D9862051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859A-5C61-4130-9886-2B756221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25E4-7F32-4603-89B0-09E9019D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5375-4C24-45EE-974E-3BF151E6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AA56-0F0D-48A1-8A94-0B82DE4E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C372-576A-4671-B3A6-A79E782EA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ittsford.monroe.edu/pittsfordmiddle/Staff/rzogby/Zogby/Images/Bookstack2.jpg&amp;imgrefurl=http://www.pittsford.monroe.edu/pittsfordmiddle/Staff/rzogby/Zogby/English%2520books.html&amp;h=273&amp;w=303&amp;sz=31&amp;hl=en&amp;sig2=Eap0ADuda5Dl9GoQfyslSQ&amp;start=7&amp;tbnid=OLgeMwjbUeR8tM:&amp;tbnh=105&amp;tbnw=116&amp;ei=I5n8Rb7hIoK2hATSmryJDw&amp;prev=/images%3Fq%3Dbook%2Bstack%252Banimation%26gbv%3D2%26svnum%3D10%26hl%3Den%26sa%3D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auburn.edu/~murraba/constr/book%2520animation.gif&amp;imgrefurl=http://www.bradleydicken.blogspot.com/&amp;h=200&amp;w=190&amp;sz=37&amp;hl=en&amp;sig2=LIj7vZxMALveWi8j3915uA&amp;start=1&amp;tbnid=FAh8g5cBWMSkTM:&amp;tbnh=104&amp;tbnw=99&amp;ei=9pj8Rb_LD4bG6gH1kc3WDQ&amp;prev=/images%3Fq%3Dbook%252Banimation%26gbv%3D2%26svnum%3D10%26hl%3Den%26sa%3D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m/imgres?imgurl=http://www.biblepicturegallery.com/Samples/ca/teaching/x_teach/apologet/Researcher%2520reading%2520books%2520about%2520Biology%2520The%2520Arts%2520M.gif&amp;imgrefurl=http://www.biblepicturegallery.com/pictures/Apologetics/Researcher%2520reading%2520books%2520about%2520Biology%2520The%2520Arts%2520M%2520ca.htm&amp;h=480&amp;w=640&amp;sz=36&amp;hl=en&amp;sig2=C9_dHrrzvOGE0RMczDwyjQ&amp;start=25&amp;tbnid=RlrQuvJco7XECM:&amp;tbnh=103&amp;tbnw=137&amp;ei=2pz8Rf6IFauuad7F5fEO&amp;prev=/images%3Fq%3Dbooks%252Breading%26start%3D20%26gbv%3D2%26ndsp%3D20%26svnum%3D10%26hl%3Den%26sa%3DN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com/imgres?imgurl=http://mclib.elkhart.com/Summer%2520Reading%2520Page/DRAGON%2520%26%2520BOOKS.jpg&amp;imgrefurl=http://mclib.elkhart.com/Summer%2520Reading%2520Page/summer_reading.htm&amp;h=2889&amp;w=2105&amp;sz=1063&amp;hl=en&amp;sig2=D2ibwxLIoQAYfeEzWNl2GA&amp;start=61&amp;tbnid=g8pM0gFlEcnctM:&amp;tbnh=150&amp;tbnw=109&amp;ei=WZ38RZzXN8W06wGy9KnkDQ&amp;prev=/images%3Fq%3Dbooks%252Breading%26start%3D60%26gbv%3D2%26ndsp%3D20%26svnum%3D10%26hl%3Den%26sa%3DN" TargetMode="External"/><Relationship Id="rId8" Type="http://schemas.openxmlformats.org/officeDocument/2006/relationships/image" Target="../media/image4.jpeg"/><Relationship Id="rId9" Type="http://schemas.openxmlformats.org/officeDocument/2006/relationships/audio" Target="../media/applause.wav"/><Relationship Id="rId10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g-consulting.com/wp-content/images/newspaper.png&amp;imgrefurl=http://www.og-consulting.com/&amp;h=250&amp;w=178&amp;sz=11&amp;hl=en&amp;sig2=f6f105DzZJkwLQktxLk_jw&amp;start=24&amp;tbnid=-yHuNK7bvmsGpM:&amp;tbnh=111&amp;tbnw=79&amp;ei=pZz9Rd_2HYai6gGk86TZDQ&amp;prev=/images%3Fq%3Dnewspaper%26start%3D20%26gbv%3D2%26ndsp%3D20%26svnum%3D10%26hl%3Den%26sa%3DN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images.google.com/imgres?imgurl=http://www.cuc.edu/academic/depts/advancement/development/Stack%2520of%2520Books.jpg&amp;imgrefurl=http://www.cuc.edu/academic/depts/advancement/development/giftplanning.html&amp;h=211&amp;w=200&amp;sz=47&amp;hl=en&amp;sig2=QIb4fud3ZcXcCASzyTQBsQ&amp;start=6&amp;tbnid=6TUiRg1Gt4dysM:&amp;tbnh=106&amp;tbnw=100&amp;ei=e478RaS6O8LkafWXnb8P&amp;prev=/images%3Fq%3Dbooks%2Bon%2Bstack%26gbv%3D2%26svnum%3D10%26hl%3Den%26sa%3DG" TargetMode="External"/><Relationship Id="rId3" Type="http://schemas.openxmlformats.org/officeDocument/2006/relationships/image" Target="../media/image8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education.qld.gov.au/corporate/newbasics/img/timeline-lg.gif&amp;imgrefurl=http://education.qld.gov.au/corporate/newbasics/html/trial/timeline.html&amp;h=329&amp;w=627&amp;sz=29&amp;hl=en&amp;sig2=4k6Fp53px664HI89e0GQLw&amp;start=17&amp;tbnid=FKYldtBL9JUWDM:&amp;tbnh=71&amp;tbnw=136&amp;ei=SJv9RZ60FYHAhASG5emIDw&amp;prev=/images%3Fq%3DTimeline%26gbv%3D2%26svnum%3D10%26hl%3Den%26sa%3D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com/imgres?imgurl=http://www.history.com/exhibits/toys/images/timeline.gif&amp;imgrefurl=http://www.history.com/exhibits/toys/timeline.html&amp;h=373&amp;w=460&amp;sz=37&amp;hl=en&amp;sig2=ifbI803e5BCtytb5I3_fUA&amp;start=12&amp;tbnid=MUXFUJwsz4WkvM:&amp;tbnh=104&amp;tbnw=128&amp;ei=SJv9RZ60FYHAhASG5emIDw&amp;prev=/images%3Fq%3DTimeline%26gbv%3D2%26svnum%3D10%26hl%3Den%26sa%3DG" TargetMode="External"/><Relationship Id="rId4" Type="http://schemas.openxmlformats.org/officeDocument/2006/relationships/image" Target="../media/image10.jpe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hyperlink" Target="http://images.google.com/imgres?imgurl=http://www.monroe.k12.la.us/mcs/images/idea_bank/classifying_critters.jpg&amp;imgrefurl=http://monroe.k12.la.us/mcs/idea_bank/Inspiration/classifying_critters.html&amp;h=269&amp;w=399&amp;sz=20&amp;hl=en&amp;sig2=jw_HPYFSKvEn_XdTELY4AQ&amp;start=7&amp;tbnid=rJWNei3hyr7FsM:&amp;tbnh=84&amp;tbnw=124&amp;ei=fJn9RYLwCqmKae3cpPgP&amp;prev=/images%3Fq%3DClassifying%2Banimals%26gbv%3D2%26svnum%3D10%26hl%3Den%26sa%3DG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images.google.com/imgres?imgurl=http://the-adventurers-club.typepad.com/photos/uncategorized/hellboy_kate_2.jpg&amp;imgrefurl=http://the-adventurers-club.typepad.com/the_adventurers_club/notes_from_the_tiger_compound/index.html&amp;h=470&amp;w=291&amp;sz=22&amp;hl=en&amp;sig2=wBjFPFhLOM6y1N3VU2MXHg&amp;start=30&amp;tbnid=hrEaH6pqRr5zeM:&amp;tbnh=129&amp;tbnw=80&amp;ei=h5r9RZGXOYHGhATG042IDw&amp;prev=/images%3Fq%3DListing%252Banimation%26start%3D20%26gbv%3D2%26ndsp%3D20%26svnum%3D10%26hl%3Den%26sa%3DN" TargetMode="External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17.wmf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ff"/>
                </a:solidFill>
                <a:latin typeface="Arial"/>
              </a:rPr>
              <a:t>Types of Expository Tex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Course:- CTGE 59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Professor: S. F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Teacher:- G. Hait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4419720"/>
            <a:ext cx="2133360" cy="1981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0" y="4419720"/>
            <a:ext cx="1981080" cy="1904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52280" y="228600"/>
            <a:ext cx="2286000" cy="2133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53080" y="1522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813F-B36C-4768-97E0-55604AA56D34}" type="slidenum">
              <a:t>1</a:t>
            </a:fld>
          </a:p>
        </p:txBody>
      </p:sp>
    </p:spTree>
  </p:cSld>
  <p:transition spd="slow" advTm="17000">
    <p:push dir="r"/>
    <p:sndAc>
      <p:stSnd>
        <p:snd r:embed="rId9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Reading Expository Tex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Marking and highligh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Ques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Clarif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Visuali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Predic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Reading and connec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graphic organiz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reciprocal reading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double-entry jour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743200" y="3124080"/>
            <a:ext cx="1830240" cy="1474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292E-F151-44F2-89FD-0B147B36718A}" type="slidenum">
              <a:t>10</a:t>
            </a:fld>
          </a:p>
        </p:txBody>
      </p:sp>
    </p:spTree>
  </p:cSld>
  <p:transition spd="slow" advTm="54000">
    <p:push dir="r"/>
    <p:sndAc>
      <p:stSnd>
        <p:snd r:embed="rId2" name="chimes.wav"/>
      </p:stSnd>
    </p:sndAc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f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Gathering Your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Discussing in pairs and smal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lustering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Drawing a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Brainsto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Quick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Using anecd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omparing and contr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Using a graphic organi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Using story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638680" y="3276720"/>
            <a:ext cx="3048120" cy="259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0694-4887-4A3C-9224-242898406647}" type="slidenum">
              <a:t>11</a:t>
            </a:fld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expository tex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990099"/>
                </a:solidFill>
                <a:latin typeface="Arial"/>
              </a:rPr>
              <a:t>Expository writing is a mode of writing in which the purpose of the author is to inform, explain, describe, or define his or her subject to the read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9999"/>
                </a:solidFill>
                <a:latin typeface="Arial"/>
              </a:rPr>
              <a:t>Examples of expository texts are textbooks, encyclopedias, scientific books/journals, atlases, directions, guides, biographies, newspap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43800" y="32004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791320" y="5105520"/>
            <a:ext cx="2038320" cy="15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CB59-96AF-484A-9EB5-E9450C806258}" type="slidenum">
              <a:t>2</a:t>
            </a:fld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re are five types of Expository Texts. These are: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equence or time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Li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ompare and Cont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ause and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Problem-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3467-23A4-465E-A100-0877AA4D01CE}" type="slidenum">
              <a:t>3</a:t>
            </a:fld>
          </a:p>
        </p:txBody>
      </p:sp>
    </p:spTree>
  </p:cSld>
  <p:transition spd="slow" advTm="36000">
    <p:comb dir="horz"/>
    <p:sndAc>
      <p:stSnd>
        <p:snd r:embed="rId4" name="drumroll.wav"/>
      </p:stSnd>
    </p:sndAc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quence or Time 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s type of expository text is often used to present events such as the French and Indian War (in history class) or cell division (in biology clas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4038480"/>
            <a:ext cx="2667240" cy="1676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10080" y="4038480"/>
            <a:ext cx="251460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4A27-D3F4-4F3E-8C3E-0A461CF3D878}" type="slidenum">
              <a:t>4</a:t>
            </a:fld>
          </a:p>
        </p:txBody>
      </p:sp>
    </p:spTree>
  </p:cSld>
  <p:transition spd="slow" advTm="51000">
    <p:wedge/>
    <p:sndAc>
      <p:stSnd>
        <p:snd r:embed="rId5" name="whoosh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68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68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68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68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ing (or description) is used to explain the features of an object or event. Biology textbooks list the features of reptiles, giving their body temperature, reproductive habits, eating habits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4343400"/>
            <a:ext cx="251460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19920" y="4267080"/>
            <a:ext cx="1600200" cy="2210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0A38-0C02-4899-B8B6-B3AD588E4E84}" type="slidenum">
              <a:t>5</a:t>
            </a:fld>
          </a:p>
        </p:txBody>
      </p:sp>
    </p:spTree>
  </p:cSld>
  <p:transition spd="slow" advTm="56000">
    <p:comb dir="horz"/>
    <p:sndAc>
      <p:stSnd>
        <p:snd r:embed="rId7" name="drumroll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Compare and Contr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Compare and contrast involves discussing similarities and differences. A Social Studies book might compare the Government of the United States and the Government of Great Brita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066680" y="4419720"/>
            <a:ext cx="2133720" cy="1693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553080" y="4495680"/>
            <a:ext cx="1830600" cy="1565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451160" cy="182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9468-3C6C-4660-BCA5-6574DF900DDA}" type="slidenum">
              <a:t>6</a:t>
            </a:fld>
          </a:p>
        </p:txBody>
      </p:sp>
    </p:spTree>
  </p:cSld>
  <p:transition spd="slow" advTm="56000">
    <p:pull dir="d"/>
    <p:sndAc>
      <p:stSnd>
        <p:snd r:embed="rId5" name="wind.wav"/>
      </p:stSnd>
    </p:sndAc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use-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A cause-effect pattern outlines reasons for events. The author describes an event (such as the American Revolutionary War) and explains what caused the event and the effects that followed from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219320" y="4343400"/>
            <a:ext cx="1744560" cy="1836720"/>
          </a:xfrm>
          <a:prstGeom prst="rect">
            <a:avLst/>
          </a:prstGeom>
          <a:ln w="0">
            <a:noFill/>
          </a:ln>
        </p:spPr>
      </p:pic>
      <p:sp>
        <p:nvSpPr>
          <p:cNvPr id="72" name="Cloud"/>
          <p:cNvSpPr/>
          <p:nvPr/>
        </p:nvSpPr>
        <p:spPr>
          <a:xfrm>
            <a:off x="3505320" y="4114800"/>
            <a:ext cx="274320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6781680" y="4114800"/>
            <a:ext cx="1827360" cy="182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376D-6F76-4156-B255-2DECB2425DC6}" type="slidenum">
              <a:t>7</a:t>
            </a:fld>
          </a:p>
        </p:txBody>
      </p:sp>
    </p:spTree>
  </p:cSld>
  <p:transition spd="slow" advTm="60000">
    <p:strips dir="rd"/>
    <p:sndAc>
      <p:stSnd>
        <p:snd r:embed="rId4" name="chimes.wav"/>
      </p:stSnd>
    </p:sndAc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69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roblem-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Problem-Solution pattern discuss a problem and then suggest possible solutions. A history author might discuss the events of FDR’s life in terms of problems he faced and how he solved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600200" y="4724280"/>
            <a:ext cx="1752480" cy="1809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267080" y="4495680"/>
            <a:ext cx="1163880" cy="1981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6629400" y="4495680"/>
            <a:ext cx="1830240" cy="156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E6F5-6C8A-41B3-B3A1-46608FA7CCD9}" type="slidenum">
              <a:t>8</a:t>
            </a:fld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efore Reading Expository Tex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Walking through a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Using an anticipated gu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Using K-W-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Using word we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Using a read-a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Using a think-pair-and-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Previe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kimming and sc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019920" y="2819520"/>
            <a:ext cx="2185920" cy="266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9DC9-7E86-4550-8546-A569741A954A}" type="slidenum">
              <a:t>9</a:t>
            </a:fld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8T03:32:16Z</dcterms:created>
  <dc:creator>ANANTHA PASKARAN</dc:creator>
  <dc:description/>
  <dc:language>en-US</dc:language>
  <cp:lastModifiedBy>ANANTHA PASKARAN</cp:lastModifiedBy>
  <dcterms:modified xsi:type="dcterms:W3CDTF">2007-04-24T03:52:19Z</dcterms:modified>
  <cp:revision>50</cp:revision>
  <dc:subject/>
  <dc:title>Types of Expository Texts</dc:title>
</cp:coreProperties>
</file>